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D74B-0839-4B11-B868-E1A99FB4B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4A97-4107-4638-85C6-283B2685F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5E55-A6FF-48CE-A2A1-45C5B4DA2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0578-D0B8-4930-BD46-F48A3070F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92E3-40E3-49A5-8F07-4C7FBAB2F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4299-7723-4F35-8325-D805E2850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99C8-8A9E-47AF-A753-DE06EA46C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48B1-BAE1-4FAD-8F52-03085FB57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959D-E633-417C-9A93-49850D601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9530-D660-4C06-A666-E3CDBA19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0487-6C20-4C26-AB91-824CA1AA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F79E-AC7F-4F00-B503-9130CC1D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AEA53-F0E1-40DE-85AD-8E2D875621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04720" y="642960"/>
            <a:ext cx="8112240" cy="9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رقت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السنين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والحلم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بقلبي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يكبر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قضي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ساعات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اتأمل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فيك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واسهر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دي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الشمعات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غفيانة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صوت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نايات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حزنان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عيوني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بكاسك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تسكر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716360" y="414360"/>
            <a:ext cx="4427640" cy="94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151515"/>
                </a:solidFill>
                <a:latin typeface="Times New Roman"/>
                <a:cs typeface="Arabic Transparent"/>
              </a:rPr>
              <a:t>عني محج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151515"/>
                </a:solidFill>
                <a:latin typeface="Times New Roman"/>
                <a:ea typeface="Arabic Transparent"/>
              </a:rPr>
              <a:t> داخل كاس وقربانة                   </a:t>
            </a:r>
            <a:r>
              <a:rPr b="1" lang="en-US" sz="4400" spc="-1" strike="noStrike">
                <a:solidFill>
                  <a:srgbClr val="151515"/>
                </a:solidFill>
                <a:latin typeface="Times New Roman"/>
                <a:ea typeface="Arabic Transparent"/>
              </a:rPr>
              <a:t>    </a:t>
            </a:r>
            <a:r>
              <a:rPr b="1" lang="ar-SA" sz="4400" spc="-1" strike="noStrike">
                <a:solidFill>
                  <a:srgbClr val="151515"/>
                </a:solidFill>
                <a:latin typeface="Times New Roman"/>
                <a:cs typeface="Arabic Transparent"/>
              </a:rPr>
              <a:t>لكن موجو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151515"/>
                </a:solidFill>
                <a:latin typeface="Times New Roman"/>
                <a:ea typeface="Arabic Transparent"/>
              </a:rPr>
              <a:t> بقلبي وبوجدان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151515"/>
                </a:solidFill>
                <a:latin typeface="Times New Roman"/>
                <a:cs typeface="Arabic Transparent"/>
              </a:rPr>
              <a:t>وجودك خشوع ورهب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151515"/>
                </a:solidFill>
                <a:latin typeface="Times New Roman"/>
                <a:cs typeface="Arabic Transparent"/>
              </a:rPr>
              <a:t>بيعطي سعادة لقلب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151515"/>
                </a:solidFill>
                <a:latin typeface="Times New Roman"/>
                <a:cs typeface="Times New Roman"/>
              </a:rPr>
              <a:t>بينقلني لدنيي تاني</a:t>
            </a:r>
            <a:r>
              <a:rPr b="1" lang="en-US" sz="4400" spc="-1" strike="noStrike">
                <a:solidFill>
                  <a:srgbClr val="151515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04720" y="642960"/>
            <a:ext cx="8112240" cy="9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رقت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السنين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والحلم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بقلبي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يكبر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قضي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ساعات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اتأمل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فيك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واسهر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دي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الشمعات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غفيانة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صوت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نايات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حزنان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عيوني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بكاسك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تسكر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71400" y="858960"/>
            <a:ext cx="773928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رة اتمنيت اسهر عندك سهرية                      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نا والليل مع نجماتو المضوي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نجماتو نعسو وناموا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الليل اتغطى بحرامو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بقيت سهرانة عين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04720" y="642960"/>
            <a:ext cx="8112240" cy="9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رقت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السنين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والحلم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بقلبي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يكبر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قضي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ساعات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اتأمل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فيك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واسهر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دي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الشمعات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غفيانة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صوت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نايات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حزنان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عيوني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بكاسك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تسكر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427640" y="171360"/>
            <a:ext cx="4564080" cy="9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ركع ساعات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غرقان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ببحر جفونك صعبةالحياة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ربي وقاسية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ن دون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س بإيديك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تحملن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عادنية ح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توصلني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شوف الآمان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بعيونك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04720" y="642960"/>
            <a:ext cx="8112240" cy="9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رقت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السنين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والحلم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بقلبي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يكبر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قضي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ساعات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اتأمل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فيك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واسهر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دي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الشمعات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غفيانة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صوت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نايات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حزنان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عيوني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بكاسك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تسكر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1T13:59:33Z</dcterms:created>
  <dc:creator>USER</dc:creator>
  <dc:description/>
  <dc:language>en-US</dc:language>
  <cp:lastModifiedBy>ف</cp:lastModifiedBy>
  <dcterms:modified xsi:type="dcterms:W3CDTF">2006-09-23T20:09:57Z</dcterms:modified>
  <cp:revision>10</cp:revision>
  <dc:subject/>
  <dc:title>PowerPoint Presentation</dc:title>
</cp:coreProperties>
</file>